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D74-6B72-4E53-B3BA-D5C7DD6E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667-9155-45CD-87CC-697708F4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14E-AB3E-4A40-BC2C-C3BA02D2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1DB-D0E5-4C2A-9359-670B0257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A9D-712A-4106-BF57-518622F1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A7C-AFFD-48C8-979F-1D7D686D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F0F-6A82-481D-9350-C8D1DD5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459-66F2-4323-8C91-85C98A75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F8D-AC96-4B94-BE37-54F8F422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0B1-19A2-4801-8F68-F878F709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D33-9C0B-4AED-96FD-ED099A72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04C-A25B-4644-99BE-7C06E757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BEC8-91AA-40E7-909E-074FB1FE1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pro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48360" y="4508640"/>
            <a:ext cx="424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1557360"/>
            <a:ext cx="698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First person: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, we, me,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Second person: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ird person: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e, she, it, they, him her, it,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3357720"/>
            <a:ext cx="651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1" lang="en-NZ" sz="6600" spc="-1" strike="noStrike">
                <a:solidFill>
                  <a:srgbClr val="333399"/>
                </a:solidFill>
                <a:latin typeface="Arial"/>
              </a:rPr>
              <a:t>nou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replaces a no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79640" y="4811760"/>
            <a:ext cx="2808360" cy="178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82920" y="5084640"/>
            <a:ext cx="194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y </a:t>
            </a:r>
            <a:r>
              <a:rPr b="1" lang="en-NZ" sz="4400" spc="-1" strike="noStrike">
                <a:solidFill>
                  <a:srgbClr val="cc0000"/>
                </a:solidFill>
                <a:latin typeface="Arial"/>
              </a:rPr>
              <a:t>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4200" y="507060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y </a:t>
            </a: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643280" y="4797360"/>
            <a:ext cx="3600720" cy="167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62560" y="508464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ho? … </a:t>
            </a:r>
            <a:r>
              <a:rPr b="1" lang="en-NZ" sz="4400" spc="-1" strike="noStrike">
                <a:solidFill>
                  <a:srgbClr val="cc0000"/>
                </a:solidFill>
                <a:latin typeface="Arial"/>
              </a:rPr>
              <a:t>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28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GUL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0:00:35Z</dcterms:modified>
  <cp:revision>22</cp:revision>
  <dc:subject/>
  <dc:title>Simile</dc:title>
</cp:coreProperties>
</file>